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C0C6-28A4-4193-ABF2-8D5D42843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8B8B-71CF-4F31-97DB-4922F399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F97E-E6F4-41E9-8590-413432717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B4D5-6107-473F-895C-4A81484D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6D41-DF5F-4A52-AA0B-B673B9F2F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B371-7069-47FF-9892-A5711A0D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04FA-6CAC-4AD7-8C55-C36B2278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6CBE-754E-4649-AA51-C2646DCF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6BFB-F730-4A56-8D96-E445A3C0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B13D-3D91-4D67-95CD-2792FAEB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ED32-F2C6-49A3-A111-C50C973B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75CE-0361-4BD7-BCE1-C205EEA4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F179-C3B9-40E4-A0DE-39034E70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ADFA-2830-484D-B9E1-B417BA94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C037-0656-4619-B4F3-B40D1003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942A-0BBE-4326-ABA4-F2138C392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DA47-F942-4D63-914C-511579A02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5AE8-1C14-4C24-8E59-5976C4DF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EDEF-A7C5-48BD-8137-653C17EF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F074-6FAD-4BEE-8E1A-5599DAD2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32ED-41E8-4B66-8633-E2532E54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F80D-2DB8-41C6-9F7A-2AD37F1D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77F8-67B4-4E3D-9A33-8FB3DDF7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5C4E-6CDD-4679-9642-F40E9DBD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D69F-0E75-4C00-80A8-F4AF51D4D4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1411-5941-454C-9939-9983AB8CBD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47920" y="3733560"/>
            <a:ext cx="6324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r: Julia Hit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334120" cy="3911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3581280" y="457200"/>
            <a:ext cx="17146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La Cas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2000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Cuart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 un cuar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 moderno y nuev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267080" y="2133720"/>
            <a:ext cx="4876920" cy="3251160"/>
          </a:xfrm>
          <a:prstGeom prst="rect">
            <a:avLst/>
          </a:prstGeom>
          <a:ln w="0">
            <a:noFill/>
          </a:ln>
        </p:spPr>
      </p:pic>
    </p:spTree>
  </p:cSld>
  <p:transition advTm="2000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905120" y="2133720"/>
            <a:ext cx="455292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End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advTm="2000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 Cas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una cas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antiguo y boni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0" y="2057400"/>
            <a:ext cx="4572000" cy="3352680"/>
          </a:xfrm>
          <a:prstGeom prst="rect">
            <a:avLst/>
          </a:prstGeom>
          <a:ln w="0">
            <a:noFill/>
          </a:ln>
        </p:spPr>
      </p:pic>
    </p:spTree>
  </p:cSld>
  <p:transition advTm="2000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Pati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 un patio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 magnifico y boni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4648320" cy="3485880"/>
          </a:xfrm>
          <a:prstGeom prst="rect">
            <a:avLst/>
          </a:prstGeom>
          <a:ln w="0">
            <a:noFill/>
          </a:ln>
        </p:spPr>
      </p:pic>
    </p:spTree>
  </p:cSld>
  <p:transition advTm="200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Jardi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 un jard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 bello y gran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419720" y="1981080"/>
            <a:ext cx="4724280" cy="3403800"/>
          </a:xfrm>
          <a:prstGeom prst="rect">
            <a:avLst/>
          </a:prstGeom>
          <a:ln w="0">
            <a:noFill/>
          </a:ln>
        </p:spPr>
      </p:pic>
    </p:spTree>
  </p:cSld>
  <p:transition advTm="2000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Garaj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 un garaj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 increible y fabuloso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2514600"/>
            <a:ext cx="4495680" cy="2738520"/>
          </a:xfrm>
          <a:prstGeom prst="rect">
            <a:avLst/>
          </a:prstGeom>
          <a:ln w="0">
            <a:noFill/>
          </a:ln>
        </p:spPr>
      </p:pic>
    </p:spTree>
  </p:cSld>
  <p:transition advTm="2000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 Cocin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 una coci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, nueva, estupenda, y increibl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191120" y="2057400"/>
            <a:ext cx="4952880" cy="3722760"/>
          </a:xfrm>
          <a:prstGeom prst="rect">
            <a:avLst/>
          </a:prstGeom>
          <a:ln w="0">
            <a:noFill/>
          </a:ln>
        </p:spPr>
      </p:pic>
    </p:spTree>
  </p:cSld>
  <p:transition advTm="2000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Comedo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 un comed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 impresionante y modern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4648320" cy="3485880"/>
          </a:xfrm>
          <a:prstGeom prst="rect">
            <a:avLst/>
          </a:prstGeom>
          <a:ln w="0">
            <a:noFill/>
          </a:ln>
        </p:spPr>
      </p:pic>
    </p:spTree>
  </p:cSld>
  <p:transition advTm="2000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 Sal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 una sal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 bella y nuev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205740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p:transition advTm="2000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Ba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ñ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 un b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ñ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, grande, bonito, y magnifi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4175280" cy="4800600"/>
          </a:xfrm>
          <a:prstGeom prst="rect">
            <a:avLst/>
          </a:prstGeom>
          <a:ln w="0">
            <a:noFill/>
          </a:ln>
        </p:spPr>
      </p:pic>
    </p:spTree>
  </p:cSld>
  <p:transition advTm="2000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4:40:26Z</dcterms:created>
  <dc:creator>hittijul</dc:creator>
  <dc:description/>
  <dc:language>en-US</dc:language>
  <cp:lastModifiedBy>hittijul</cp:lastModifiedBy>
  <dcterms:modified xsi:type="dcterms:W3CDTF">2012-10-26T17:07:55Z</dcterms:modified>
  <cp:revision>29</cp:revision>
  <dc:subject/>
  <dc:title>Slide 1</dc:title>
</cp:coreProperties>
</file>